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535-F638-42F2-A6C1-B3327FCFF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AFA-7997-4EB4-A74F-5ABC9C99AD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4B9B-0B13-4762-9A64-50AA07D8E8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EF00-AE69-4645-AD5C-A24664A699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236-026A-4773-9841-F08F6AA406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11A4-1EB0-4499-A128-432CE3A92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A92E-9A7B-42DC-A330-F31A65B5F6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FEEB-C719-4991-889A-72081D42C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B2B7-BA05-4F7E-B6B8-6DC0013253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146F-6F43-4127-80DA-2DCE3E374E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1D1-6CD6-4418-9A7F-8F8EB42CA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C64-6FBC-436D-8664-BC3C1986A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5F9D-9E43-4E8B-9F9E-CDB3EDA79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3EB6-D0E2-4650-90A0-44C89773B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004-D3D0-4D9F-A461-E4FAF2EEA3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2F95-2698-4B8D-ADAA-EBE4E2C46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7D27-0530-4825-9F23-65D61A2822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80B6-D1CB-49F8-B361-2104D20CCA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4DD0-309B-4DB7-87AB-80786A148A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BD72-8E56-497C-B1C9-F51FCE95D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F504-CD45-4D10-AF1A-67B8E752BA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002-47F5-4FA6-B380-2BC02B3C49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0A43-48D2-4D16-BFC2-85216CCAD0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7494-ED2F-4E5C-BABE-939806103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4C25-A834-4A51-8D4B-7B67BB7360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2BCA-5F78-4ED8-8632-4D934E3F9E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3EA-E105-4280-BAA1-9B89165A9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6EB6-EFBA-438C-92B9-E0BD9E9F0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DFF8-5D92-4762-8AC4-D7A5B52241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77FE-768C-42E3-9913-373FE0132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ACC-7DF5-4888-A8CA-1368426E3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F496-193A-43C2-BC35-75FB6EDF51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68C6-4663-47CB-935A-C10949478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4539-097D-4E79-817D-35CA59467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E4D-F345-4029-9646-27E5345E51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6E1C-1816-4D83-B33D-BD9C252594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B8F5-8C06-4D1E-A6AC-BD656970AA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2024-C59C-4D8F-B6A6-8F0901296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45A0-1962-4687-B583-2A90C24627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F4F-C1CC-4B63-A5D2-C0DF9BEA44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842-EFBC-4B2D-8C73-D5D5943B8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0684-CFE2-4496-81C7-F8FD48585C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744-DE9F-45E9-B309-DE17571DEA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8C1C-EA37-477D-993F-7B065AC9E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E9B6-7E84-4A99-B18A-F3259AFB65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BC9-A582-44DE-830A-5280DB08D9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B96F-8ADD-4E31-A266-457C97B71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B2DC-A036-4A97-A3E1-252F18C7C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2A75-0E49-4E43-A501-074F8CECA9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9AD8-0929-4A1D-9BA5-0ADCFDDFD2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586-BD2E-4059-9BA4-29729795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E5C-94FF-4A56-A17E-D86950B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E94-4D8D-4229-9CE4-38D358AE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0DE-AA15-4F99-A1EB-F04EB6A6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C3B9-AD2E-42AC-BFD5-A025494D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0743-F781-41D3-A447-06A45329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4156-1F32-4584-A8D3-30FF2EB7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DECD-5F5F-443B-B944-8A215AF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A0C0-EC22-4DB1-84ED-1826650F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8EE1-3ABF-469C-845D-CFE1DB6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0C46-3FAB-4CE4-BD95-D918DB3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DA9-64D9-4C58-9E25-119BE0E7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2231-2B65-4298-91A3-E99332A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F68E-4026-4D0E-B88F-57B2A16B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664F-3AA6-406A-8FDE-64C9D67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D310-9FDF-4E4E-B1C8-37242E28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2645-6684-4F82-A0B4-C561E940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77A-090C-454B-BE03-DE840337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E39-7CE2-423A-8AE3-5E5EB4A8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E13-45DD-41B6-94B1-C1DB2046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E08-494E-4D52-B932-040BFA40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F77-31B3-49A1-BD8E-A571C81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0E0-DAB2-4EB9-A946-0C4D7574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7F8-106B-499A-AC13-49A4EF49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757E-0F88-47A0-8194-4721A472C1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FE7A-4E10-4FF7-AB41-4D2C74927D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ion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5791320" y="533412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5791320" y="563868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2133720" y="4191120"/>
            <a:ext cx="3657600" cy="1218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133720" y="4191120"/>
            <a:ext cx="3657600" cy="152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715000" y="1143000"/>
            <a:ext cx="68580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n the insoluble grou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5791320" y="533412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 flipH="1" flipV="1">
            <a:off x="3048120" y="4723920"/>
            <a:ext cx="27432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          </a:t>
            </a: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 NO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n the insoluble grou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91320" y="533412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 flipV="1">
            <a:off x="3048120" y="4723920"/>
            <a:ext cx="27432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insoluble group?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5791320" y="563868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352680" y="5257800"/>
            <a:ext cx="2438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insoluble group?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5791320" y="563868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352680" y="5257800"/>
            <a:ext cx="2438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insoluble grou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rms a </a:t>
            </a:r>
            <a:r>
              <a:rPr b="0" lang="en-US" sz="18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, the chart indicates it has </a:t>
            </a:r>
            <a:r>
              <a:rPr b="0" lang="en-US" sz="1800" spc="-1" strike="noStrike">
                <a:solidFill>
                  <a:srgbClr val="83b200"/>
                </a:solidFill>
                <a:latin typeface="Arial Narrow"/>
              </a:rPr>
              <a:t>Low Solu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59" name="Oval 7"/>
          <p:cNvSpPr/>
          <p:nvPr/>
        </p:nvSpPr>
        <p:spPr>
          <a:xfrm>
            <a:off x="8077320" y="5638680"/>
            <a:ext cx="60948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st Ionic compounds (Salts) are soluble in water, but the degree of solubility is different for different salts.  Salts can be described in one of the following catego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Solu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Partly (or Sparingly) Solu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Insolu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en-US" sz="3000" spc="-1" strike="noStrike">
                <a:solidFill>
                  <a:srgbClr val="83b200"/>
                </a:solidFill>
                <a:latin typeface="Arial Narrow"/>
              </a:rPr>
              <a:t>soluble salt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 can be defined in 2 wa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Qualitatively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Soluble salts tend to dissolve in aqueous solution in almost unlimited amou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Quantitatively</a:t>
            </a:r>
            <a:r>
              <a:rPr b="0" lang="en-US" sz="29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More than 1 g of the salt dissolves in 100 mL of solutio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or More than 0.1 mole of the salt will dissolve in 1 L of solu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General Solubility Rules (Time savers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itrates (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luble with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cat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mmonium (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luble with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an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kali Metals (Li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luble with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an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a chemical reaction between two Ionic solutions, a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or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a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orms, one of the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f the reaction is the precipitate, in other words, it is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insoluble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it is a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soli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 can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predic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orms the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f we have a solubility chart han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exam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en a solution of Potassium iodide [KI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] reacts with a solution of Lead (II) nitrate [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 (aq)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], a yellow precipitate form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reaction can be described in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tassium iodide solution reacts with Lead (II) nitrate solution to form Potassium nitrate with Lead (II) iodi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of the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insoluble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(the yellow precipi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KNO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PbI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KNO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Soluble - ie (aq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PbI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KNO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Soluble - ie (aq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PbI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Insoluble - ie 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en-US" sz="2600" spc="-1" strike="noStrike">
                <a:solidFill>
                  <a:srgbClr val="83b200"/>
                </a:solidFill>
                <a:latin typeface="Arial Narrow"/>
              </a:rPr>
              <a:t>partly soluble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salt can be defined in 2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litatively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rtly soluble salts tend to dissolve in aqueous solution but in limited amou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ntitativel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tween 1 g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0.1g of the salt dissolves in 100 mL of solu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tween 0.1mo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0.01 mole of the salt will dissolve in 1 L of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1Pb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1PbI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get rid of Spectator 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ions that do not take part in the reaction (ie.,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they appear the same on the reactant side as they do on the product sid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get rid of Spectator 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ions that do not take part in the reaction (ie.,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they appear the same on the reactant side as they do on the product sid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get rid of Spectator 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ions that do not take part in the reaction (ie.,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they appear the same on the reactant side as they do on the product sid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 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 rid of Spectator Ions –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ons tha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do not take part in the reac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ie., they appear the same on the reactant side as they do on the product side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mplified and rearrang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hy are Net Ionic Equations 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2KI 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(aq)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+  1Pb(NO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)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2(aq)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caff3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2KNO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3(?)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+  1PbI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2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Simplified and rearrang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1Pb</a:t>
            </a:r>
            <a:r>
              <a:rPr b="0" lang="en-US" sz="3200" spc="-1" strike="noStrike" baseline="30000">
                <a:solidFill>
                  <a:srgbClr val="caff38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caff3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caff38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caff3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caff38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 1PbI</a:t>
            </a:r>
            <a:r>
              <a:rPr b="0" lang="en-US" sz="3200" spc="-1" strike="noStrike" baseline="-25000">
                <a:solidFill>
                  <a:srgbClr val="caff38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efore showed that lead ions react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odide ions to form lead (II) iodide. It also tells us that the sourc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lead ions doesn’t matter. The lead ions could be from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itrate or lead sulphate. Likewise for iodide, it’s ion could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vided by sodium iodide instead. Changing the spectator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esn’t impact the reactions…..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Arial"/>
              </a:rPr>
              <a:t>Because They’re Just Spectators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Content Placeholder 3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30225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An </a:t>
            </a:r>
            <a:r>
              <a:rPr b="1" lang="en-US" sz="2600" spc="-1" strike="noStrike">
                <a:solidFill>
                  <a:srgbClr val="83b200"/>
                </a:solidFill>
                <a:latin typeface="Arial Narrow"/>
              </a:rPr>
              <a:t>insoluble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salt can be defined in 2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litatively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soluble salts do not dissolve in aqueous solution in any amo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ntitativel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ss than 0.1g of the salt dissolves in 100 mL of solu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ss than 0.01 mole of the salt will dissolve in 1 L of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ummary - Big Ide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me double displacement reactions form precipi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ecipitates form in double displacement reactions between two ionic solu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ecipitates are insoluble ionic compounds, and do not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net ionic equation demonstrates only the ions that re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6"/>
          <p:cNvSpPr/>
          <p:nvPr/>
        </p:nvSpPr>
        <p:spPr>
          <a:xfrm>
            <a:off x="6019920" y="1295280"/>
            <a:ext cx="3124080" cy="1828800"/>
          </a:xfrm>
          <a:prstGeom prst="wedgeRoundRectCallout">
            <a:avLst>
              <a:gd name="adj1" fmla="val -60212"/>
              <a:gd name="adj2" fmla="val 100953"/>
              <a:gd name="adj3" fmla="val 16667"/>
            </a:avLst>
          </a:prstGeom>
          <a:solidFill>
            <a:srgbClr val="83b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308640" y="1447920"/>
            <a:ext cx="275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9" descr="MC900439851[1]"/>
          <p:cNvPicPr/>
          <p:nvPr/>
        </p:nvPicPr>
        <p:blipFill>
          <a:blip r:embed="rId1"/>
          <a:stretch/>
        </p:blipFill>
        <p:spPr>
          <a:xfrm>
            <a:off x="3200400" y="2286000"/>
            <a:ext cx="25336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Determine the ions present in this compound:  -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2.  Look up the anion on the Solubility chart. (in this case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-36180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-36180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2.  Look up the anion on the Solubility chart. (in this case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2.  Look up the anion on the Solubility chart. (in this case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4952880" y="1523880"/>
            <a:ext cx="838440" cy="441972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029200" y="5562720"/>
            <a:ext cx="76212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743200" y="3657600"/>
            <a:ext cx="228600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4952880" y="1143000"/>
            <a:ext cx="76212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1:38:32Z</dcterms:created>
  <dc:creator>Paul Teetzel</dc:creator>
  <dc:description/>
  <dc:language>en-US</dc:language>
  <cp:lastModifiedBy>TCDSB</cp:lastModifiedBy>
  <dcterms:modified xsi:type="dcterms:W3CDTF">2013-11-28T01:15:50Z</dcterms:modified>
  <cp:revision>19</cp:revision>
  <dc:subject/>
  <dc:title>Predicting Ionic Solubility</dc:title>
</cp:coreProperties>
</file>